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3CBF-F6C3-4B1C-B1CC-182B0F72B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EFF2-860E-4645-8FC2-4E5C81E98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69B4-049A-4F16-BC33-90643A284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8DFB-6D62-48A4-85E7-8E90751C2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racebioblog.blogspot.ca/2010/05/artificial-selection-good-or-ba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C260-6055-461D-82EA-F65BC16CC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article/evo_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BC75-3938-4B32-9B9E-9A1C18A5D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ackwellpublishing.com/ridley/tutorials/quantitative_genetics23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45F-DA66-44FC-9024-DA5A5FCB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FDE-F8A6-4E41-B678-FAFF46ED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0FB-3602-4CC0-AE72-17FDBB5F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5B5-6A5A-4148-83AC-B0140E24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F5F-2C4E-4C01-BFF6-3754823D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E76-1741-4BF9-AA87-DEBCFAF1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C9B-329A-4210-ABDB-C9952339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209-D8A2-4103-A916-5E7F78FB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0B7-7B3F-4148-9EBA-7A9B1AB6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596-3983-46A6-AD65-3B4F062C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890-9C43-425D-B0FA-27FF6D88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674-2CF4-46BD-86AF-7370C44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4E8E-4198-4694-97E6-23D635CFC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hange Over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ensures that there is genetic variation in the offspring &amp;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cause additional genetic var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 selec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duce reproductiv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crease reproductiv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breeding (of animals, plants, etc.) for particular desirable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bidogtree"/>
          <p:cNvPicPr/>
          <p:nvPr/>
        </p:nvPicPr>
        <p:blipFill>
          <a:blip r:embed="rId1"/>
          <a:stretch/>
        </p:blipFill>
        <p:spPr>
          <a:xfrm>
            <a:off x="4495680" y="2066760"/>
            <a:ext cx="4343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mustardselection"/>
          <p:cNvPicPr/>
          <p:nvPr/>
        </p:nvPicPr>
        <p:blipFill>
          <a:blip r:embed="rId1"/>
          <a:stretch/>
        </p:blipFill>
        <p:spPr>
          <a:xfrm>
            <a:off x="685800" y="858960"/>
            <a:ext cx="77724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selection_corn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eders must work with the existing genetic diversity, or they can use genetic engineering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3:12:05Z</dcterms:created>
  <dc:creator>rubina khan</dc:creator>
  <dc:description/>
  <dc:language>en-US</dc:language>
  <cp:lastModifiedBy>rubina khan</cp:lastModifiedBy>
  <dcterms:modified xsi:type="dcterms:W3CDTF">2016-05-27T14:22:39Z</dcterms:modified>
  <cp:revision>39</cp:revision>
  <dc:subject/>
  <dc:title>PowerPoint Presentation</dc:title>
</cp:coreProperties>
</file>